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57B21-2DBC-4D6C-BFDF-5BEFC05B9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145E5C5-CAA8-4939-B7B2-44F69F9DDF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1789F6C-08A5-4477-9DAA-216A00C232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1BEC04F-5A64-487D-84B9-2AA3CE84C0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E8FA639-FA12-4A2B-B9D1-DF352FD5D6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B769A6E-6F55-4826-88F7-0071B02143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1A2C054-1485-459D-80B1-05AB67BF35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89A0179-DE7B-4515-BB33-3A5F86F5898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6FEB1CE-B608-43DC-B5E1-EBB074AA27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701C9EC-8AB4-4EBF-A468-DB4077C39A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AD6B200-1414-4BF2-8004-0D973036821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3AF7839-F21A-4B0E-B7F4-ED1C522C9F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D7FF9AE-3572-4DDC-8453-F9B3AE447B8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E4A4D75-45EF-4D47-BF06-46E2118F3D4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89622C8-9401-469C-B702-F6E57B64CF0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EBF8CE7-7F05-4775-AF1D-4AC5F1710F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687A625-DB60-47D1-A69A-F238CEEA1D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A4FB4D2-7A6E-4BC8-BD20-63ABB779C5C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1AB029E-44C8-4431-8F94-A7BFCB40B68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AA3BCEC-1365-4733-9FA0-142C9C0A9E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1E31E41-498A-4D50-B495-25AADBD733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52A585D-CDF8-407F-8811-63541653C1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FEA9A8A-433C-4F26-96A5-4EFBCF3326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78EA10F-C0CD-409D-A5C2-F96E8AA3B8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46A22CB-3AB0-445F-BDE3-4538694DB20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17BE561-4D8A-492A-A887-161C685D85D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426BA02-8601-4C16-97D2-7E846C1C27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5D1EF12-72D4-44F4-9D9A-325FDB262EA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4C276F8-81C3-4A42-881E-EFF6D59A39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C8D96BD-5985-4406-A056-C11E513EBD9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DF693A10-84BB-4A66-85B3-18C96C85F6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8FE3737-6A40-4011-9F66-1217D766479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4847830-DFD3-4469-A17F-04DCAB7BCB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111D83A-0E07-4D51-AF18-72A780FD97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461CE86-A47D-471C-ABCA-66ED2B60148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5DF4310-2D56-40F5-A2E7-D9B4B4077A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183D65A-6A91-4D71-84CC-494B405950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9D8FEE9-CB6C-4B2C-99BB-0F801651A2F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D7D0A57-47E3-43BF-86B5-B7BF5F40283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5088409-793C-4044-A7BC-BF55C8ADEC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61B9E52-7A6E-42D0-BCB9-2393150D25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A9A9E6C-ECB9-46C6-A844-2B0018C79A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935E976-98C8-4784-81D2-BAB262FF2B6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2F6CF39-3FD9-4643-9E2E-B4111DD77D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A5B1F3C-F333-42AC-9D63-AC4A456085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6402A13-D65F-47EF-B259-2823E2F4E2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AB3C801-2265-44A9-B93C-C719567C0EF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53DFA48-759D-4BB1-BA9B-690D0767F0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57ACBFD-9B3A-47D2-9817-F34CFB67D6B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B00F6E4-A699-4426-B483-34213AF457C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F92F55D-72C9-454E-BD6A-40088F311F3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B16F006-888F-419A-90DC-4B72CFFBBF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2D71736-760A-4595-83D6-473DC14CC4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FE55C57-616C-4EA2-9ABD-FFD2AEAE7D1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2F6DB77-36E8-492F-9ECB-E55F8E72B5F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158BA4F-BBC3-49A1-B16E-D31F58F8B17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54341F4-4931-4684-881F-814AA8C0F11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3ADAF6B-9621-4D53-AED4-033575572E2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057A584-4B53-432F-A535-645059EDB75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80600AE2-801B-4666-BE65-4A2F1BF185F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D158ABD-0DA0-4D9A-9EA8-79D280C9292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96C484D-0C2B-4B84-9618-A63391C587B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ED33D91-B102-4CAF-83C3-35B5CBD0687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F6583A9-F60A-4879-A256-E191139D8C4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B8265A5-4E73-4607-B91E-1BBE2E2BC3F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4D8039B7-469E-40ED-809B-F60D4BB1902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F58F56D-6968-487B-AD1E-4289160E434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A410EB6-F0B7-44A5-9065-379A48A4F9A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2A06718-A075-4085-B5B1-17D0567C5AC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79713CD-CD04-43B9-B669-7C09C4B88D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D8F9361-28A4-43F4-A5D2-8C799295B68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CE298E6-0CE4-4491-B9C2-E87EE4B3DEA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96A01D2-43C0-4FAA-8174-746B1B5FD3D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D83EF70-548C-421B-8621-36CD9A1A0AA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D555134-7E9F-4788-8D1C-AC5306251C4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D65A0FB-5AB7-412D-8862-70B42FA7BA4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47BD6D0-900E-47AE-80A0-49FA7CADBF9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37AF4C7-EEA0-488C-A034-F0D09B0EF5D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D3F20C98-06D2-4B86-9568-D0D0DFD9E82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E36815F-5CC6-4A07-9DAD-0CD229865E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A6B7347-D1A5-4392-B91A-F13DF060A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65A865F-2D75-442C-A3C7-374B48C2F25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6861499-3EF0-4E64-BDE3-47C3C4224CF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0FC8584-B376-4370-B8C0-F062274245D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B69FCBF-35A7-4E30-8B9F-968D044679E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BA4EECA3-5421-473F-AE00-30277E15139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4C131E2-E3C0-404F-865C-FDB241B58BE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78F6C73-C189-47B4-BAB6-91D68364F0B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F17644F-6045-4506-8CC9-E0CD09EA718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B7218EA-18A0-4E1A-BEC0-AC079730655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570FC6D-8DCC-42B6-9500-C9A4073C46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4336EAE-8ECE-475B-AD72-80C3265D45C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CDE3E0A-AE9F-42B2-A209-F8108B22FB7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18A884F-FA52-4562-8DD1-25F2A5F4CCA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88A3B61-9B45-40CC-B3C0-AE9DB4694AF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6760681-4A98-4754-9AC3-EBB2EFAAD64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3277E3DB-1BE7-4E74-BBAA-562371D90FE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62E91D4-70BB-43C7-9AC6-D563AD8EF53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3854336-C71D-459F-AFB2-9F86E379801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7FDDA43-3968-4D4E-B2BC-90DADDF3779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8518D34-4758-4E5C-B28B-99B1FB1132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268EF26-80A7-4123-9266-B0BF5458E88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149CC9D-98E6-4398-8E32-0CE41BD846B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E6450EB-C716-48BC-9C35-51EADAC008C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34B8140-CC17-4EC1-888B-2FA3ED04756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049E895-5BF5-4875-A0AC-698AE038E5F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23F67D9-88EE-4E04-863E-3E111F3CE9D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942D4F6-5F32-479A-A650-4FE07A45718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D23B314A-D7F4-483C-83AA-F3E0B0944BA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23954B3-3F9C-4A4A-98AD-B75C948374E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5A66000-948F-44D7-890E-E4E1DB9450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32779AB-F861-4AE5-9A92-CA612071029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47BC310-F5DD-45AA-A951-9E6136E4EAB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AB1ABF4-77B1-4B4D-A9F3-C9B36DC67D4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DF3813C-EE2B-47B2-AF28-6D749C502AE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88E11810-34A5-4727-9236-2C44D599C25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50CD335-665C-4151-ADCE-77941FBB64C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0F86A2F-01AF-4C8F-9FA9-4C2ABA78D65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1B758F4-F3CA-464C-9E71-922E90E36FA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BE9845E-5AF5-4A6F-A3B7-BEFEB105180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98489FFB-2E57-42DB-A1AD-FA047AC5AC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8DE9307-178B-4B6E-91FA-A90B52A7250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0B20200-EB29-4757-81DE-9CF92251D14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D51CC94-8234-4B0C-923B-B51FD436DC5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93C69E6-98A0-4FE0-9CA1-8BFC256D943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1D3BF47-C9A2-472E-A057-3D56CE45216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FE76773F-53C6-45BF-B5C5-3988428D502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0A8EE1D-F43E-40D4-91B1-BD89CB7C20B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6E92028-3D20-4A0E-8E1F-6625BA041E5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A5A2F0D-60AB-43D2-870F-ABFF2F0F2B8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D298852-1076-4B38-9E69-BE432CB83E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9E6D4-AD91-4891-8C01-6024CB2E155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4B883E1-8C7A-4D20-92DE-1D78F4BE4E0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A52118C-32CE-42F3-9A92-3D33414D39A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FB9C917-E33D-4EA7-8129-C803D9723F0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8B3F43A-CF8E-4268-8EB9-BB23F77A816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F05DC76-B8F3-4B6E-99BD-97231AE57E3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98220D3-8092-4FE2-9A45-F2ED49F13B0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8AE923F-8472-4D0F-9E0D-F98809DE9AA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F6B96299-61C0-414F-9BD9-4337743F70D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C7DB59E5-2937-4208-8F2E-8208FE9EC05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5EF60E5-683A-4C95-9A43-1D9AF658F3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5032682-2ECC-4658-99D0-5ADFB3EC2DA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4C53496-8BD3-4BE8-86AD-596FD3A1153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212D0EB-DCEF-49A0-A070-B2016686D86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8F39CFF-8B98-4656-A768-919EFB5F61F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9C288F4-490E-4A60-BE7F-06EE03183B7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A52C71A-B8EB-433A-9BBC-A2951BCD961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7C12A94-84D8-41EF-A051-7D3E3928C9B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0582AC9-82E2-4C30-A434-EECC8FA7B3C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2FBEF48-7C3F-4E26-AF33-80AE0A6A8B2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59C9962-63E9-4BF8-A92E-16561184D4B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32EF8AA-BA9F-4FE4-A28E-82ECE30D6F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5EB25C1-C8E7-41C5-92CA-694C5BB0C63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772B2BB8-6944-466C-82EB-90C993E29B9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04A466E-09A0-4826-801A-9862498F905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03D2E82-7E06-49F6-94F2-D1B6E651C1E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AB6F0AA-2BA4-4281-936D-E70A468B3FE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B713B57-5320-492F-AD88-E9C19F8CC34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EB544B91-54CF-4337-8821-2BA74F542E9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1E22CD8-68FC-4772-B8E3-A43251E7E06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9B5A15E-3091-4050-A25F-31895D4D999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C9CB6BD-0699-4AA4-9790-0971CC1297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BFFB0A5-A353-4644-80A6-F3929E3E207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F9CAF78-4C42-42F3-AF47-FF2998FE8A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E8CD256-3340-4426-AE6F-FFE61552A1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4090C52-FE87-41F8-9637-BF1707A766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CA4B0DE-12E0-4E48-89A4-293E97ABA1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27C52D7-D9ED-49BC-8FED-5F2117B924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BD21B32-641C-4260-871F-EA0DA4BEEE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FDC6550-345C-44BB-8CB9-BC03E5E161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A6204A-D3D9-4999-81F1-21F009FD064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9E479E5-8AA3-4617-9753-091FE63BFB8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616A674-B6BA-4124-9D1C-55395665C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1D4BF69-7E3D-430D-AA9F-3FED211015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98C7AB3-A68C-47EE-94B9-6ADB2551B10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CE8CDC9-BD4F-4646-AAC6-DFD14935EE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1183239-EC40-461B-8DE0-EA3FD65C368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44CE6BA-C17D-470C-94BD-D07EBAD5193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40E140B-6114-414E-ADF4-3AD8D39D85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0AAFD25-A844-496E-9017-492B114F6B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1816F00-9E3A-4377-A43E-419D167CDB7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39968A5-FEA6-4773-8F0F-2FA0336CF26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3CF8418-919F-4270-B5B1-205A2F5D5BB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C22E7C-45B5-481F-BEC4-A37E8EE49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6DE0919-E424-4078-ACFE-CE8AB95943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F565173-4095-4B2D-BC5D-A5D6BBCFF2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789FCA6-CC4A-4A44-BE80-ABC0805895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ADFBCF1-09BB-4723-B7CC-7E9E107FC7B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AB758B9-632B-4296-9DB9-A7FBF8DA9F5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7458652-14CC-4824-B12B-779E8B377E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026C4C4-3DBB-4993-8AA2-BEDFF635CD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BDA77D7-8C81-4DFA-8819-05174F5FEBE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1E40292-2A56-4017-85DC-5318BA378EA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EB2C247-DA02-4382-A906-33831F29912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2A754EA-B99D-4C9A-ACA7-60E6326490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1B90555-D09F-4550-967F-AFB38D9151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8B91A34-0AD0-4B3C-96B4-AE90CEA14A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3DDA327-25C8-4A28-A837-60F90CD4C38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FA4335B-402B-43E5-8D81-A5C834FCC8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B1BE2FE-F7BD-4A90-8EDC-6C9B9302E8D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75F2CA2-3AB3-43D5-801F-DE3EF3A376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7CBED16-4F6A-4EF8-8076-7545D337CA6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84141A4-CADB-4FA6-9F05-DB87F3E6B9A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29D66AA-1392-4DA9-8B6A-EDFD8D061D4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EB1C757-44CC-4E6E-B0F9-E8F8067A960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687AEFF-9342-4E7D-9F3C-9A06227C8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EDCBEFE-0834-4AD8-92B3-CFFA515A2A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724BA1B-A813-4DB6-A49B-54144B7D3AA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913DA2F-3A74-4480-B6AB-48C2A80127D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C88DBBB-1958-4AC0-BB0C-4B6BE08C0D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769EB84-9790-4C68-BD90-64D2E77F2CC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ACC2458-5629-4F75-A3A1-ECEACEDC34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A0A9E47-3453-4F58-8427-9D286ED9E60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5D80F5D-35E5-4251-8060-88474EE74C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48D5F68-241F-4035-B810-E18A634EB2C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B4C2166-4ED4-44EB-8BDA-2A73F49B2C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9FCF7D4-03AA-4D63-87E0-E09BDC290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D1DCBFA-6095-4CF0-A8CB-F366B4F9A2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48CBF11-4A83-4AD7-A65A-4820375D16E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AA1E22F-377F-44C1-88EF-405CF2C886C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764E595-3141-4B9F-BFB4-6547F8A966F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7C5C984-D6F4-4519-96E7-6E8DC1A8BA4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DF3CC30-CF9E-460D-B36B-31A5B878B62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2138CC5-FBAB-4925-867D-ABC9E7D896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25ABE2B-DEA9-4F50-8FDD-E84305F5C61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51851D9-10D0-4B6B-8CE4-B994D8B9E3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635A16E-58F0-4709-B465-6D1783155AB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13D458F-8376-4740-92AD-01E0A4DC1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662F655-D3B3-4ACF-8123-F3FE05D77B7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77B12F40-0DF3-4A0C-A105-897D0F4AA68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273406A-D4B3-4AF6-B791-DD55256CBA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AEC8958-2DF0-4CB3-9366-781D6F234E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66DEAFB-72A0-41F3-9176-68E549F27C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6FB6EB8-A8BF-40DC-AA47-76ED467C08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812D736-820E-4E2B-A5F3-9309664C56E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08A80F5-CC29-4563-A13C-C29F9E1574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15FA2B7-1059-4ED7-8539-04E1337F7C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282847C-2BBE-44CB-8CF1-3642580FA2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985910F-75A0-4441-9B84-603CDE26F3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3531-8FB9-437A-B10E-A0CE5CC4B473}"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67DE-5659-4DBD-9FC6-D49B238244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3226-271A-46CF-A2CE-93F7B170E8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DECA-4B5F-40E2-B56C-8B05DBA1F7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69E4-E417-401F-A5E4-5CD18513F79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C4EC-75A6-4B53-90D1-2CC8C8FF38C5}"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7526-B2E8-4521-AF4E-EA09B343E3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A5A6-9952-4A75-8553-909B4F4A809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6AA8-7430-4256-841A-F1DD14AECC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AAB2-CCD6-490C-A696-420B425C04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2C54-682A-4F9C-A826-5C0F2D03FB1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1A12-8870-49D3-A474-EC5FA311C9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0A12-0162-4B91-B186-84C217D91D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9E66-86AC-4003-8193-611F133A47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0952-4467-4361-9183-7F6DD47266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8FF2-8241-4E64-82A3-35BBB4ABA72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4E9F-49C5-4A98-B568-384ED8B53D8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320F-046C-4353-B894-4D5CE072C2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BB41-6A1D-4B0E-B676-F738C43EA6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8A31-42F2-409B-BD91-2CF58F0C439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A5E9-BD4F-4044-A4AE-CC39C922DB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0492-35B2-443C-A204-F769184AE8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22BA-EDBB-4D29-BD36-08DEDB572A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E3AD-588C-484F-8C97-AC8598CD740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1D22-11B0-4FF5-B046-31AF2BA04EF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6C5F-592A-430E-8E70-0DCDA6B354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FF20-DF63-4E34-BA65-74A4F77D287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4586-D5EB-45B6-A433-4B1A386592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E9A2-D9A7-4919-96E9-90E1893B719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E7C0-EE21-41F6-8FC6-BFA68B15F16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5153-6E5C-475B-BE1B-8D1D523F59D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6298-743F-4F51-A0A9-70430B5E33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F5B1-A473-4DCE-8AAE-0BCE037BE3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5EA0-05F7-4A18-8C5D-99DF432BFF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7C40-A10A-4BFF-AC18-DF8A694F63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16F3-D68C-4CB5-B175-FE8052A29C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9A7C-0A75-4239-BA47-AE405E7340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9417-E88F-41AF-B37D-DC090A3626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0960-39F3-4697-B5B7-15194838A0C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FE79-8659-48B5-B5E7-AE57946416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F680-6F66-421E-968A-E9FEA79B4C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McGrath Edward J</cp:lastModifiedBy>
  <dcterms:modified xsi:type="dcterms:W3CDTF">2014-03-24T15:44:50Z</dcterms:modified>
  <cp:revision>35</cp:revision>
  <dc:subject/>
  <dc:title>Text-Dependent Questions</dc:title>
</cp:coreProperties>
</file>